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D04-928E-4307-AFAD-C6A18117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1EF-9A17-4FEB-A340-49387075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281-7746-47CD-8A51-7D48DE06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648-04BC-4174-9D3D-8C76F711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CD2-6470-433B-BF80-3A3BBBF7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56E-AA25-4B37-B49F-B82FF2D8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AA2-2C0B-4242-B8C7-A220A801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5C8-CF1A-4889-B80A-87BD5452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E1B-362F-4EA2-9FDF-5DB2B03C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745-F22B-42FA-9087-17CDA952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659-51FB-41B7-816A-85982BB6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952-A3C4-4E05-ABAE-FC6268C3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4A27-3163-4CE0-81C8-B5E3A6F552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Long, O Lord?”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ohn’s Epistl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3 ,Lesson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ohn 1:1-1 John 2: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0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o Know Him Is To Do His Commandmen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uly know God we must devote our lives to follow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laim to know him but you do not follow his Word, the truth is not in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bide by the word is to be like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not serve God and hate your 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Know Him Is To Do His Commandment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ate your brother is to put a space between you and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hates his brother is in dar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is World Is Not Our Hom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ove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not love the world and God the 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that are of the world; the lust of the flesh, the lust of the eyes, and the pride of life are not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and the things in it will perish , but if you stay with God you will abide fo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.D. 70-100, no inspired history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only know for sure what happened to one of the apostles, James the brother of Joh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thought that Jude (the Bishop of Edessa and commonly called Thaddeus , was stabbed by a 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lso believed that Andrew was bound to a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, that Philip was st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cution faced the Christian of this 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nger from Jews but from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with the reign of N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 were burned, tortured, beaten, crucified, and impriso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intensify during the reign of some rulers and then slack off in the time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s, famines, plagues, and any other disruptions were blamed on the Chris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y would not worship ancient g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combs were underground burial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mainly by Christians to bury the dead, but also to hide and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 likely worshipped underground during times of severe persec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length of the catacombs is 590 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, during this time period there were many false doctrines aside from the Judaizing teachers that had always been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prominent being Gnos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nosticis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ed a knowledge far above that of the Bible and what a common man could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, one could lead a sinless life and that, even if one did sin, it would not spoil his inne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ught that Jesus was a normal man when he was born and when he died, but during his life he was de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lowship With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Know Him Is To Do His 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ld Is Not Our Ho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Wo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was from the begi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been given to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e are bringing the word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y we can all share the gift of fellowsh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ellowship With Go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the light of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y to live without God in our lives is to deceive our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if we walk with him, we have fellowship with all Chris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ave si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, if we confess our sins, he will forgive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 is the propitiation for our 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20:49:06Z</dcterms:created>
  <dc:creator>Tab L. Vines</dc:creator>
  <dc:description/>
  <dc:language>en-US</dc:language>
  <cp:lastModifiedBy>Frank D Vines</cp:lastModifiedBy>
  <dcterms:modified xsi:type="dcterms:W3CDTF">2007-09-08T15:57:05Z</dcterms:modified>
  <cp:revision>11</cp:revision>
  <dc:subject/>
  <dc:title>“How Long, O Lord?”  John’s Epistles</dc:title>
</cp:coreProperties>
</file>